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F74D-0751-473A-8C71-56689F9B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6C03-F465-4210-B64E-C0CEAA8A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2E94-C26B-4086-8A28-2AC8DEDD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66B5-692C-4949-B7CB-2C02F3F5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C654-BD36-419B-B694-78197FA4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173C-B8DD-4648-9224-989F8821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EC36-C22C-45E3-B5DE-91E3A926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29D7-4521-403F-B275-5C20F1E9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5DB9-E235-4093-8C15-08568FE7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E5E2-95ED-4C87-A379-8E6054A5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4C09-5187-4F0C-9132-E4BCB619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16F8-988B-440E-BF51-B420FF05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89DF-235E-4412-A9A8-CA1FA27BB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pirc@fndfl.or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edl.org/connections/resources/evidence.pdf" TargetMode="External"/><Relationship Id="rId2" Type="http://schemas.openxmlformats.org/officeDocument/2006/relationships/hyperlink" Target="http://www.sedl.org/connections/resources/evidence.pdf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dl.org/pubs/library_community.html" TargetMode="External"/><Relationship Id="rId2" Type="http://schemas.openxmlformats.org/officeDocument/2006/relationships/hyperlink" Target="http://www.sedl.org/pubs/library_community.html" TargetMode="Externa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sedl.org/connections" TargetMode="Externa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ed.gov/admins/comm/parents/parentinvolve/report_pg7.html" TargetMode="Externa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692520" cy="5553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48320" y="4114800"/>
            <a:ext cx="4038480" cy="2384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Family Network on Disabilities of Florida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2735 Whitney Road Clearwater, Florida 337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Phone: (727) 523-11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Toll free: (800) 825-86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E-mail: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 Unicode MS"/>
                <a:hlinkClick r:id="rId2"/>
              </a:rPr>
              <a:t>pirc@fndfl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Website: www.fndfl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91320" y="1600200"/>
            <a:ext cx="1358640" cy="2197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343400" y="45720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mpact of Family and Community Involvement on Student Achie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A0F5-9F95-448A-BF34-9BB0800986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2887200"/>
            <a:ext cx="777240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findings were tru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families across demograph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ies such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n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al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6858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ositive Impa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Student Achiev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3320" y="205740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Across Demographics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B518-4B9F-4462-9D4F-B943CCA4C5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9907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Benefits Iden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 point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res on standardize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pa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ositive Impa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Student Achie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54A6-C78C-47E0-8C2A-4F7827CA90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ing an engaged parent i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in itself a guarantee of high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 achieve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Key Characteristic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expect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d curricul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lity instr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ool leader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ositive Impa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Student Achie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3520" y="1676520"/>
            <a:ext cx="620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No Substitute for Good Teac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8D9B-8D31-467C-9461-12800A3C2D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221472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s and interventions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e families in supporting thei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’s learning at home are link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igher student achievement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.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ositive Impa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Student Achie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2960" y="2438280"/>
            <a:ext cx="589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Schools Can Make a 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D3FA-25FD-4959-A0B5-59D03D6A4C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09480" y="3123720"/>
            <a:ext cx="65534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families support their children’s learning and educational progress (through the years) the more their children tend to do well in school and continue their educatio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.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ositive Impa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Student Achie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2209680"/>
            <a:ext cx="35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Cumulative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6C71-2B59-4C46-80A6-C8C84EB3B0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3048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ies of all cultural background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, and income levels encourag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children, talk with them about school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them plan for higher education, and k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 focused on learning and homework.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.3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ositive Impa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Student Achie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1240" y="2209680"/>
            <a:ext cx="419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ALL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 Types of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031A-2F43-4875-BF14-A3CC7A0CC3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2971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Strategies f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29D1-09C7-47CA-9E0B-1A0CD6E3C1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0880" y="2895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s that successfully connec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families and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e involvem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welcoming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specific parents and community needs.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. 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Strategies f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8480" y="2133720"/>
            <a:ext cx="26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On the Wh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AD32-6DBC-4F56-AA81-32A3EDB5D9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80880" y="2743200"/>
            <a:ext cx="7467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’ involvement is based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arents think they are supposed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s’ confidence in their ability to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’s perception that the school &amp; child want them to b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Strategies f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2280" y="1981080"/>
            <a:ext cx="50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WHY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 Parents Get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53341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Kathleen Hoover-Dempsey &amp; Howard Sandler (1997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6D20-BAE6-4B25-B063-6582E71BE2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2743200"/>
            <a:ext cx="7010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nfluences choices about “how” t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invol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 self-perception (skills, ability, inter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s on time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, teacher/school specific suggestions and invitations for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Strategies f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53341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Kathleen Hoover-Dempsey &amp; Howard Sandler (1997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5600" y="1981080"/>
            <a:ext cx="50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HOW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 Parents Are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384E-9AD4-4986-BE55-1525E0B5CF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40976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Center for Family &amp; Commun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s with School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west Educational Development Laboratory</a:t>
            </a:r>
            <a:br>
              <a:rPr sz="2400"/>
            </a:br>
            <a:br>
              <a:rPr sz="28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New Wave of Evidence: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pact of School, Family, and Community Connections on Student Achievement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Synthesis 2002</a:t>
            </a:r>
            <a:br>
              <a:rPr sz="2000"/>
            </a:b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ne T. Henderson &amp; Karen L. Mapp</a:t>
            </a:r>
            <a:br>
              <a:rPr sz="2400"/>
            </a:br>
            <a:br>
              <a:rPr sz="2400"/>
            </a:br>
            <a:r>
              <a:rPr b="0" i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i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sedl.org/connections/resources/evidence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6E4F-796A-4F3B-91FC-EAC8498851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240" y="2437920"/>
            <a:ext cx="6705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lvement of parents from economically distressed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s own educational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parents’ involvement when they were in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beliefs about famil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dens of family responsibilities/tim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Strategies f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57150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Karen Mapp (200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11480" y="1676520"/>
            <a:ext cx="62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Economically Distressed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D5DD-751A-4E85-A07C-7284FEA273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Strategies f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5334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Karen Mapp (200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819520"/>
            <a:ext cx="6705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FACTORS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school staff engage in caring and trusting relationships with parents that recognize parents as partners in the educational development of children, these relationships enhance parents’ desire to be involved.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p.4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0160" y="1782720"/>
            <a:ext cx="62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Economically Distressed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D971-35C8-466D-9641-AFCDC48E30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Strategies f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2578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Karen Mapp (200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819520"/>
            <a:ext cx="6705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FACTORS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es by which relationships were 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come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or par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with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ing proces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0160" y="1782720"/>
            <a:ext cx="62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Economically Distressed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78E5-3F3F-4AE4-890E-2FD206CEE8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2290680"/>
            <a:ext cx="82296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 involvement program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are effective in engaging diverse families recognize, respect,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cultural and class differenc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.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Strategies f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2209680"/>
            <a:ext cx="31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Diverse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7C60-EAEE-45F1-9843-35772DD887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practices to invol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ies from different cultur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ocial backgr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on cultur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personal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ter 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warm environment for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e structural accommo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Strategies f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A66B-DE44-4FD4-B994-EE51C49B02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2971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nity Organiz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orts to Improve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9CB8-626B-47A9-97FB-A9D8B067304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28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Organizin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a base of parents/residents wh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e in action to address schoo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ing on change in schools us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ization, direct action, negotiating,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ng democratic 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ing leaders from with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strong, lasting organization to alter power relationships that lead failing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nity Organiz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orts to Improve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68A9-C1B5-447E-B297-0F944ADBFA7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28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organizing contribu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hanges in schools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graded school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leadership and staff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quality lear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resources &amp; f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nity Organiz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orts to Improve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5A94-AD89-49F0-AE8D-FBD0A1785CF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ild relationships so those holding powe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ome more willing to share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ild capacity of local school leaders t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and share decision mak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aden power base of families and community me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rights of free speech, assembly, due proces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access to cou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 governance policies to give parents and community members a voice on key issu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nity Organiz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orts to Improve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7440" y="164952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Key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C0D1-5107-4BD2-8C56-906974DB874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28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nity Organiz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orts to Improve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7440" y="1981080"/>
            <a:ext cx="26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Major Fi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ed initiatives are develop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low-income, urban areas and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ral sou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have contributed to changes in policy, resources, personnel, school culture, and educational progr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1A97-EB10-4775-B920-01311618289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istory of “Evidenc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3048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idence Grows (198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idence Continues to Grow (198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w Generation of Evidence: The Family is Critical to Student Achievement (199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E937-1C66-40F3-BF02-506D8E265D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commend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400" y="3441240"/>
            <a:ext cx="70992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Putting Findings in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334F-4FAF-496D-B941-BB9C480A1F1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that ALL parents a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d and want their childr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o well in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that all families can help impro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children’s performance in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in from blaming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38C9-AE2E-45C6-8706-6D72830DB5C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programs that will suppor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ies to guide their children’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eK-High Schoo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Childhood Program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ding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groups with other fami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es on stimulating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ECA7-46B7-493F-A682-485482FE4B7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ing children’s lear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&amp; Middle School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eractive homework involving famil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gular phone calls from teach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arning packets with instruc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etings with teachers to talk about progr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school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gular meetings with teach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formation about program options, testing, gradu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formation about financing postsecondary edu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lanations of courses of study to prepare for colle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B813-1C4B-4FAE-AB4A-8143344585F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with families to build thei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and political conn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families’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 childcare, transportation, 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amilies’ involvement in 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families information about the educ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he school to community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 families in acti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ite families to attend staff meetings &amp; trai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1BCB-5B76-4320-9D5F-90730488875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the capacity of schoo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 to work with families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me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pre-service &amp; in-servic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staff recognize advantages of school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y, &amp; community conn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re how to develop relationships with fa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hance staff ability to work with diverse fa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 staff to make connections with community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 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EED3-28EC-4419-AA39-EA360312BAA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28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family and commun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ement efforts to student lea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programs for parents to assist childr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development of specific ski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 an activ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role pl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materials &amp; advise on how to use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parents assess children’s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ideas &amp; knowledge between after-school staff and 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 information on standards at open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 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DA07-6274-49B4-8C39-807168A920D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efforts to engage famil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ommunity remember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ing trusting and respectful relation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ships ar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ect cultural and class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e resources to build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staff the resources and time to create and operate progr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 #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FF2C-C1A7-4E5C-A498-4A03AD8A921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brace a philosophy of partnership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willing to share power with fami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bed families in comprehensive scho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ment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training for school decision-mak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on how to work eff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using parents and community memb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“rubberstamp”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 #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5891-FA49-4039-AD15-4CD31A2CED5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28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strong connections betwe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and community organiz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with community organization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.g. Boys &amp; Girls Club, YM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he school to groups/agencies t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amili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.g. health care, family literacy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ob training, recreation, social activ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 with efforts to reach families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organizations including religious group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.g. neighborhood walks, focus groups, meetings with politici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 #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4C41-3F27-4550-866C-8AF612AC237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thwest Educational Development Labora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597040"/>
            <a:ext cx="6454800" cy="184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DL'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Free Publications by Subject - Community and Family Involvement in Stud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10A9-850E-4363-8CF5-973A09160D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20400" y="2971800"/>
            <a:ext cx="640476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re is “strong and stead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owing evidence that famili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improve their children’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ademic performance in scho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.7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1754280"/>
            <a:ext cx="758520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The Evidence Continues to G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2163-6C2E-4AD6-A591-862D818FAB1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thwest Educational Development Labora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ational Center for Family &amp; Community Connections with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112C-31D5-4F5F-B6DF-763CEC4038E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.g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ngaging Parents in Education: Lessons from Five Parental Information And Resource Centers-- Pg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FAA2-9970-4763-8138-C95132A5463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D1DE-D34C-472F-915A-9143E6431B9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the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1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cove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childhood through high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e po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as well as parent/famil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sources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methodological, experimental, quasi-experimental, or correlational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s that match the data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E4A3-28A6-4C0D-9019-1691AC0D47F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the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Research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f parent &amp; communit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ment on student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strategies to connect school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ies, &amp; communiti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*new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 and community organizing effor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mprove school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w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4949-D9D6-4FB7-8024-75FD4230A9E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2130480"/>
            <a:ext cx="777240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Head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EAS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arly Access to Success in Edu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PP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Home Instruction Program for Preschool Youngst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le I Parent Outreach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eachers Involving Parent in Schoolwo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4572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Programs in the Stu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11ED-F112-4C8A-BE37-F2E39E532C4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e Studies C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s of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vs. School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-School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 Use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 and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Organizing/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 Re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0A99-DADC-44A5-AC51-8879B068A36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ng Parent Invol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s included involvement 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&amp; in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studies used some vari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Joyce  Epstein’s 6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at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ng w/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C603-4E19-4FD5-906A-3FA47C5C6A9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Invol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ing in learning activ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ing checking 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ing about school and wha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ren ar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ding school events &amp; co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out-of-school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nteering i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0E0C-1683-4042-A0DF-272020204EB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ottom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4120" y="1809720"/>
            <a:ext cx="6188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parents are involved, regardles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ir income or background, stud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more likely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n higher gr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e higher or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nd scho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pt well to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du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on to post second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E90B-D3C3-4600-8500-BD9885DD3E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Student Achie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card gr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ollment in advance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ed test s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ollment in advance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ing ratings of school adju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 &amp;  healthy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/languag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C749-A281-44A5-B1B4-ABD51FF0D4E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long-term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number of experiment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quasi-experimental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sampl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rigorous standards i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ations inherent in use of survey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interviews/question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“directionality” looking after the f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determine the “why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007F-D330-45E4-A20D-6505E41BEA1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and conduc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rigorous and that uses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ally sensitive and empowe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 of involv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different types of research to shed light on all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s and issues in this complex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 information on practices to engage famili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future federal data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and how family involvement is defi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e a greater variety of forms of family and community eng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y how families attempt to influence schools an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come more invol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Recommen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81680" y="1828800"/>
            <a:ext cx="205740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’t forget to complete our online survey on the last slid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D5C-91E5-4FEA-A021-B2EAC964E30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click on the link below to take a short online survey. Type in you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sswor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r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rve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ert link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ducato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surv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nsert link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585720" cy="9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3481-8D3F-41B5-8D70-61987B740C5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lease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Complete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valuation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06600" y="1984320"/>
            <a:ext cx="61308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more information conta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3886200" cy="15861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219320" y="4343400"/>
            <a:ext cx="7772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35 Whitney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earwater, Florida   337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: 727-523-1130 or 800-825-57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x: 727-523-86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fndfl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895480" y="2666880"/>
            <a:ext cx="1067040" cy="155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296D-C200-443F-AB9B-7CA7B30B5D3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1DFB-4A0F-4E32-95FB-857AA7F104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7772400" cy="40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the Quantity of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Impact on Student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ing the Scope of the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Strategies for Making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Organizing Efforts to Improve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BEB5-720A-49BE-9FA6-6D5DC9F4AA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71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ositive Impa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Student Achie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499E-B791-4E96-9968-EAFE670CEC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ositive Impa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Student Achie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sitive and convincing relationship between family involvement and benefits for students including improved academic achievement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. 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7960" y="2185920"/>
            <a:ext cx="277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On the Whole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C208-C93C-4BC6-82C8-34DC3F744B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9T20:27:26Z</dcterms:created>
  <dc:creator>Robert Childs</dc:creator>
  <dc:description/>
  <dc:language>en-US</dc:language>
  <cp:lastModifiedBy>remoteUser18</cp:lastModifiedBy>
  <dcterms:modified xsi:type="dcterms:W3CDTF">2007-09-13T14:04:59Z</dcterms:modified>
  <cp:revision>54</cp:revision>
  <dc:subject/>
  <dc:title>The Evidence Continues to Grow</dc:title>
</cp:coreProperties>
</file>